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90976"/>
        <c:axId val="94559656"/>
      </c:barChart>
      <c:catAx>
        <c:axId val="88990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9656"/>
        <c:crosses val="autoZero"/>
        <c:auto val="1"/>
        <c:lblAlgn val="ctr"/>
        <c:lblOffset val="100"/>
        <c:noMultiLvlLbl val="0"/>
      </c:catAx>
      <c:valAx>
        <c:axId val="94559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90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D9A-D733-483D-9834-3E491A95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FA9-CCA7-4F4C-9CF0-028D6485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C0B-257A-43BE-8C8B-B135B1AF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6B5-A77C-4AD6-96A1-90513072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7FD-B1D1-4234-BB2B-6AF05A15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0F6-F6DD-4F7C-B9F7-91C97A5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9C8-E4B0-4CA4-A138-EC8D648B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46A-277D-4495-8537-B7C0C7A0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18F-914B-442D-80D0-7FA2B19B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DEE-20EE-4556-80F1-ECB8C98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021-7896-4FAB-B19D-0399336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2B4-5384-4EBE-B22D-6641610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1427B-4EDE-49A6-A8DA-251729695F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