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29492"/>
        <c:axId val="63290369"/>
      </c:barChart>
      <c:catAx>
        <c:axId val="22929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90369"/>
        <c:crosses val="autoZero"/>
        <c:auto val="1"/>
        <c:lblAlgn val="ctr"/>
        <c:lblOffset val="100"/>
        <c:noMultiLvlLbl val="0"/>
      </c:catAx>
      <c:valAx>
        <c:axId val="63290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29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CB4-3E77-4C4D-B7B8-6C1509C7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E0F-35A0-4A0F-B038-02D61234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DC4-6E9F-440D-8142-07437B06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F177-844A-4429-9768-09DBA502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3A9-5A87-4DBA-ABAD-5FCF4DA8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1C0-8AEE-44F7-BF9A-3C7662D0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34F-9FE7-4B14-BFD7-4808AA07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E6C4-86A2-4E12-A423-70958470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AC6F-6823-4F20-8E45-9F3C6ED2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E8A-8E80-4BCD-ABA0-A902C811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30B3-3CA2-4AFD-95B6-9B7A2A87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DDF-3E4E-4604-9B41-11F514A6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7B4BC-46C8-40AA-937E-9B3C3017B8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