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251475"/>
        <c:axId val="8135326"/>
      </c:barChart>
      <c:catAx>
        <c:axId val="372514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5326"/>
        <c:crosses val="autoZero"/>
        <c:auto val="1"/>
        <c:lblAlgn val="ctr"/>
        <c:lblOffset val="100"/>
        <c:noMultiLvlLbl val="0"/>
      </c:catAx>
      <c:valAx>
        <c:axId val="81353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514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E44E-3298-42B2-8AB6-2FF8A1FE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6662-686D-4308-9C5E-1168FE56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F23E-8D84-4734-94F6-79A72605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4962-4729-4607-B2CE-930CA2991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6B4D-B5A0-4FB4-8184-3CB8D739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ABA7-51FF-4A6F-82EE-1F0D90B3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FD1C-88C2-44FA-816A-3B3A12A1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3C0E-BF04-4CE6-8EAA-974EF9CB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7E4C-62BF-4FF6-9D3A-00FEE6C6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B6F5-A897-4208-970C-FE40F2C5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87C9-0A95-4BC5-AAAE-885B158E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C1D3-B919-4222-AA55-5E1D4D24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AE94D-DA90-4E99-9009-135F1F8999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